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298-079D-4F01-A5D3-2D23AA49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A70A-4CC4-4830-A396-99F9A3A2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99B-F2AA-4BD7-914C-65AB1BD6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B0F8-D14F-470B-8726-B2A10602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FA2-E4B8-41D2-88EA-0B003C43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6BB-DADD-40EE-AB75-E0B8C78F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BFF-5D59-42BD-894F-833E69F1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7D66-A720-48CF-9E42-57952FF5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E9E5-DA42-4668-9680-A0A43B6E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A81B-BBD6-45E9-A533-6018D311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D42-A53B-48D8-BF18-722E4564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6DE5-B508-42A6-8E6E-474A2420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08BE-7579-48A7-B075-08696BD7F3A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2420640"/>
            <a:ext cx="6400800" cy="2305080"/>
          </a:xfrm>
          <a:prstGeom prst="rect">
            <a:avLst/>
          </a:prstGeom>
          <a:solidFill>
            <a:srgbClr val="ffe98d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تاس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 المحاسبية ونظريات الاستثمار الحديث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82FD-6074-4B5B-87C9-CB92E0185132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1023480"/>
            <a:ext cx="7772760" cy="9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محفظة الاوراق المالية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2813040"/>
            <a:ext cx="7839000" cy="27036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قوم على أساس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ظرية المنفعة في اختيار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ظرية الاحتمالات لتقدير العائد المتوقع من كل قرار استثم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7B9-600B-484A-8B68-2147FEE8DE7B}" type="slidenum">
              <a:t>10</a:t>
            </a:fld>
          </a:p>
        </p:txBody>
      </p:sp>
    </p:spTree>
  </p:cSld>
  <p:transition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4360" y="1700280"/>
            <a:ext cx="7772760" cy="67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ed4c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فروض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ن</a:t>
            </a:r>
            <a:r>
              <a:rPr b="0" lang="ar-SA" sz="2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ظرية محفظة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298680"/>
            <a:ext cx="7848720" cy="25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خذ العائد المتوقع والخاطرة في الاعتب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ختيار المحفظة الكف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وزيع العائد عند مستوى م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ن من المخاط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مخاطرة تتناسب طرديا مع الع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712-8423-40CA-AE85-813F886E10A8}" type="slidenum">
              <a:t>11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144440"/>
            <a:ext cx="7772760" cy="707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واع المخاط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78400" y="2472480"/>
            <a:ext cx="2849400" cy="9630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نتظ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43840" y="2471760"/>
            <a:ext cx="2631600" cy="94716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نتظمة (دو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560" y="3959280"/>
            <a:ext cx="2668680" cy="22064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في جميع الاوراق المالية ولا 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8200" y="3981600"/>
            <a:ext cx="2971800" cy="2197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ي التي تؤثر على العائد من نوع معين من الاستثمار ويمكن تجنبها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529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3640" y="350028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547-43DB-4383-B790-CD174D08222D}" type="slidenum">
              <a:t>12</a:t>
            </a:fld>
          </a:p>
        </p:txBody>
      </p:sp>
    </p:spTree>
  </p:cSld>
  <p:transition>
    <p:random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914400"/>
            <a:ext cx="7804440" cy="908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2706840"/>
            <a:ext cx="7775280" cy="324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مش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حديد البدائل المم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جمع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تقييم البدائ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ختيار البديل المناس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72A-CAB1-44AE-A0DF-3C92558FBAC9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780840"/>
            <a:ext cx="7772760" cy="907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492280"/>
            <a:ext cx="7848360" cy="14274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هتمام بالارباح المتوقعة ونصيب السهم منها والمخاط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363920"/>
            <a:ext cx="7775280" cy="17290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50000">
                <a:srgbClr val="cccc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راحل التحليل الأساس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منشأ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صناعة التي ينتمي إليها المشرو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راسة النشاط الاقتصادي الك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98B-D0C3-473A-B037-328FFB5DA8EA}" type="slidenum">
              <a:t>3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419120"/>
            <a:ext cx="7772760" cy="908280"/>
          </a:xfrm>
          <a:prstGeom prst="rect">
            <a:avLst/>
          </a:prstGeom>
          <a:solidFill>
            <a:srgbClr val="cccc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360600"/>
            <a:ext cx="7704000" cy="194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e98d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هتم بدراسة السوق التي يتم الاستثمار فيها مثل سوق الاوراق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EC0-A648-4FB0-9293-C12F469C49E8}" type="slidenum">
              <a:t>4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84456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ور المعلومات المحاسبية في العم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421000"/>
            <a:ext cx="3581640" cy="8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اساس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4021200"/>
            <a:ext cx="35812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ليل الفن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5468760"/>
            <a:ext cx="42670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ختيار الاستثمار الافض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79396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25520" y="430704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98d"/>
          </a:solidFill>
          <a:ln w="572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71B-4298-4150-BB69-496184F23F9D}" type="slidenum">
              <a:t>5</a:t>
            </a:fld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55640" y="1268280"/>
            <a:ext cx="7772760" cy="960120"/>
          </a:xfrm>
          <a:prstGeom prst="rect">
            <a:avLst/>
          </a:prstGeom>
          <a:solidFill>
            <a:srgbClr val="ccccff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ظرية السوق الكفء والمعلومات المحاس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3139920"/>
            <a:ext cx="7778880" cy="2953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e6dcac"/>
              </a:gs>
              <a:gs pos="100000">
                <a:srgbClr val="ccecff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هتم ببيان أثر المعلومات على أسعار الاوراق المالية في السوق ودراسة سلوك المستثمرين تجاه كل معلومة تن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السوق الكفء هو الذي يتكيف أولا بأول لكل معلومة يتم نشرها وبالتالي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عكس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ثرها ع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ى أسعار الاوراق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45E-2886-4572-B9D3-A1DF80304D9E}" type="slidenum">
              <a:t>6</a:t>
            </a:fld>
          </a:p>
        </p:txBody>
      </p:sp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52200"/>
            <a:ext cx="7772760" cy="691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56640" y="2375640"/>
            <a:ext cx="244728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87680" y="2375640"/>
            <a:ext cx="2316960" cy="520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27640" y="3284640"/>
            <a:ext cx="2314800" cy="280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ن حيث الآلية التي يعمل بها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305160"/>
            <a:ext cx="2438280" cy="2860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رجة الفهم  الاستفادة من المعلومات المنش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9720" y="3284640"/>
            <a:ext cx="2448000" cy="2936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جر الزاوية في الحكم على كفاءة ا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وعيتها(تاريخية، حالية،داخلية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  مالية ..الخ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وافر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صادرها وتكلفتها ودق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09920" y="2347920"/>
            <a:ext cx="245736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C602-2ABC-4C57-8D40-CA593A455483}" type="slidenum">
              <a:t>7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427640" y="2349360"/>
            <a:ext cx="288720" cy="86364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90760"/>
            <a:ext cx="7772760" cy="62028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علوم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078200" y="2765160"/>
            <a:ext cx="2165040" cy="6253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غي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14720" y="2770200"/>
            <a:ext cx="2166840" cy="62064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53240" y="4032360"/>
            <a:ext cx="2190600" cy="191772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7320" y="4011480"/>
            <a:ext cx="2087640" cy="1909800"/>
          </a:xfrm>
          <a:prstGeom prst="rect">
            <a:avLst/>
          </a:prstGeom>
          <a:gradFill rotWithShape="0">
            <a:gsLst>
              <a:gs pos="0">
                <a:srgbClr val="ffe98d"/>
              </a:gs>
              <a:gs pos="100000">
                <a:srgbClr val="cce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اريخ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4388400" y="1818360"/>
            <a:ext cx="279720" cy="25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93960" y="34718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34160" y="34862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B9F-AACD-494F-A7C3-0FEF14D2947E}" type="slidenum">
              <a:t>8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6084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508120"/>
            <a:ext cx="0" cy="25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620640"/>
            <a:ext cx="7772760" cy="691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سوق الكف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14600" y="1945080"/>
            <a:ext cx="2228400" cy="53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دن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188760" y="1876680"/>
            <a:ext cx="2237040" cy="598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اعل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227640" y="2911320"/>
            <a:ext cx="2232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جميع المعلومات المالية وغير المالية المتاح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1080" y="2924280"/>
            <a:ext cx="2303280" cy="181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والح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2868480"/>
            <a:ext cx="223200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e98d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أسعار الاوراق المالية تعكس المعلومات التاريخية فق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1080" y="1916280"/>
            <a:ext cx="2303280" cy="591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المتوس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5029200"/>
            <a:ext cx="23763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صعب التحقق لصعوبة التماث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5027760"/>
            <a:ext cx="244800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غير مقبول لصعوبة تحديد الاسعار بناء على معلومات تاريخ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5027760"/>
            <a:ext cx="2376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e98d"/>
              </a:gs>
              <a:gs pos="50000">
                <a:srgbClr val="ded4c0"/>
              </a:gs>
              <a:gs pos="100000">
                <a:srgbClr val="ffe98d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imes New Roman"/>
                <a:cs typeface="PT Bold Heading"/>
              </a:rPr>
              <a:t>مقبول بشكل واس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1592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تاسع: المعلومات المحاسبية ونظريات الاستثمار الحديث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67A-7445-41DD-A816-641214BD76B8}" type="slidenum">
              <a:t>9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2:45:21Z</dcterms:modified>
  <cp:revision>37</cp:revision>
  <dc:subject/>
  <dc:title>التحليل المالي والائتماني</dc:title>
</cp:coreProperties>
</file>